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E72D-B954-41DC-BBA3-055376312AB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3564-46AD-4F8B-B07D-CE4AA3E0F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08AD-A241-455D-81BC-4CEF0F24F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E1E1-877A-4AC8-88E7-16A9F5AF5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9366-27E5-4CCE-9F64-7B336CEF4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2D8E-C402-4E76-B004-EEC5E7FBE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45F9-5749-4CA5-B747-E47CDD73F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B04A-D276-4DE3-8448-BF597BE78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BE36-A617-4985-9514-1949B722A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2F86-AB03-4957-B3C7-F1988E94B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6A8D-078B-4553-8C4F-25EF0EACC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EC9A-C697-4697-89B7-F1736722F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57E4-3CF1-4127-B87E-08721521D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0333-B3D1-4A41-B992-38E8A7017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75BF-80C0-41C2-B8F5-65302C402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A0E4-8199-4E5E-9F08-1AA754A88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AACA-5D24-4957-932F-8209EBF46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D8F2-61A3-4A28-9D33-BD50A1155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BA4C-DC5B-4C70-BEA2-81D923794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50DB-297E-4925-9703-ECFB03CDC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55AB-8E38-4CF0-A5F8-B378882CD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65CA-88CD-4CEF-9CF3-776C976EE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E742-AAC4-431A-B79F-59BC582A3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1A78-24CE-440E-B9B6-4C1BADE7A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69BD-71A5-40A0-81F8-BFE99DC9F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7554-3847-4351-8CC4-D8CC23EBD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087-AA54-4E90-99BE-75E157C8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0EB5-87EB-4BCD-8BCB-48AE8B1F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3534-9B0C-4266-93F7-0046F16F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1D6-27AE-4755-9EB0-A7936216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9E28-D9ED-4FE0-AEBD-6D22D265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33E3-04C7-4F23-928A-2CAE1494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EAC9-CB27-4577-AE6F-5C1A8CA7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5A6C-F298-4152-9FBB-DC8F65FA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7D85-7A20-4102-99F1-1B72923D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065A-DBC7-4652-9B56-67BEEB8E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4C15-EC9A-4ACF-B9D1-EC555224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7731-AC49-4464-8310-64883D79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1917-F18B-4730-85D4-56865D6F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5D54-4293-4024-BB76-0B85B546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1B90-E416-4EDD-A076-2AD9A77C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6CB1-048C-47E2-9431-020E5DA2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931F-4329-4AE0-9824-291E168C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DC0-6EAC-4AD7-A295-A94B42A6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011-B4B3-4D38-94B8-C3AB25E8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B0B-FB77-419B-841D-D7DF67D0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78D-8EFE-4C6A-8998-ADE7F506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C3A4-BFF3-4E71-BFCC-0F8E8C2E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20F-6AED-4319-897C-DFD63AA2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D75D-5653-4368-B1CE-F1B9AD00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64E5-A3F6-49CA-AE11-2FBE5B10EB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946E-DF04-4E0D-87B6-4FDED13052E1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54FB-547A-4F79-8A21-707E583A95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6528-B277-4018-9A10-2485D6E03FB8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1828800" y="2035080"/>
            <a:ext cx="563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Ionic Bond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Science 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35CE-D76C-4AAE-8B1B-5FE7AB149E03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Dots For 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447920"/>
            <a:ext cx="8558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s will have very few valence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will come o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ing cations (positive 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066680" y="3352680"/>
            <a:ext cx="556272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15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098360" y="5867280"/>
            <a:ext cx="718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um has lost two valenc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AC68-225F-4B1B-A831-81004B483BFE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ectron Configurations for An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893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metals gain electrons to attain noble gas configu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make anions (negative 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we look at electron configuration it makes sen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2, 8, 6 -    6 valence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2, 8, 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noble gas configuration (A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86DF-8703-4628-900A-0F0DE8BCB610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3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Dots For An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2760" y="1318680"/>
            <a:ext cx="8680320" cy="18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metals will have many valence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will gain electrons to fill outer sh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523880" y="3429000"/>
            <a:ext cx="205740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5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1835280" y="3359160"/>
            <a:ext cx="21564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1911240" y="5416560"/>
            <a:ext cx="21600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2540160" y="3359160"/>
            <a:ext cx="21564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1225440" y="4154400"/>
            <a:ext cx="21600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2"/>
          <p:cNvGrpSpPr/>
          <p:nvPr/>
        </p:nvGrpSpPr>
        <p:grpSpPr>
          <a:xfrm>
            <a:off x="3200400" y="4194000"/>
            <a:ext cx="1442880" cy="677880"/>
            <a:chOff x="3200400" y="4194000"/>
            <a:chExt cx="1442880" cy="677880"/>
          </a:xfrm>
        </p:grpSpPr>
        <p:sp>
          <p:nvSpPr>
            <p:cNvPr id="158" name="Arc 10"/>
            <p:cNvSpPr/>
            <p:nvPr/>
          </p:nvSpPr>
          <p:spPr>
            <a:xfrm>
              <a:off x="3348000" y="4194000"/>
              <a:ext cx="1295280" cy="6094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80"/>
                    <a:pt x="9654" y="14"/>
                    <a:pt x="21574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80"/>
                    <a:pt x="9654" y="14"/>
                    <a:pt x="21574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1"/>
            <p:cNvSpPr/>
            <p:nvPr/>
          </p:nvSpPr>
          <p:spPr>
            <a:xfrm>
              <a:off x="3200400" y="4655880"/>
              <a:ext cx="215640" cy="216000"/>
            </a:xfrm>
            <a:prstGeom prst="ellipse">
              <a:avLst/>
            </a:prstGeom>
            <a:solidFill>
              <a:srgbClr val="1f497d"/>
            </a:soli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5"/>
          <p:cNvGrpSpPr/>
          <p:nvPr/>
        </p:nvGrpSpPr>
        <p:grpSpPr>
          <a:xfrm>
            <a:off x="2585880" y="5384880"/>
            <a:ext cx="1671480" cy="1059840"/>
            <a:chOff x="2585880" y="5384880"/>
            <a:chExt cx="1671480" cy="1059840"/>
          </a:xfrm>
        </p:grpSpPr>
        <p:sp>
          <p:nvSpPr>
            <p:cNvPr id="161" name="Arc 13"/>
            <p:cNvSpPr/>
            <p:nvPr/>
          </p:nvSpPr>
          <p:spPr>
            <a:xfrm>
              <a:off x="2733480" y="5606640"/>
              <a:ext cx="1523880" cy="83808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4"/>
            <p:cNvSpPr/>
            <p:nvPr/>
          </p:nvSpPr>
          <p:spPr>
            <a:xfrm>
              <a:off x="2585880" y="5384880"/>
              <a:ext cx="215640" cy="215640"/>
            </a:xfrm>
            <a:prstGeom prst="ellipse">
              <a:avLst/>
            </a:prstGeom>
            <a:solidFill>
              <a:srgbClr val="1f497d"/>
            </a:soli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8"/>
          <p:cNvGrpSpPr/>
          <p:nvPr/>
        </p:nvGrpSpPr>
        <p:grpSpPr>
          <a:xfrm>
            <a:off x="1185840" y="4794120"/>
            <a:ext cx="1290600" cy="984240"/>
            <a:chOff x="1185840" y="4794120"/>
            <a:chExt cx="1290600" cy="984240"/>
          </a:xfrm>
        </p:grpSpPr>
        <p:sp>
          <p:nvSpPr>
            <p:cNvPr id="164" name="Arc 16"/>
            <p:cNvSpPr/>
            <p:nvPr/>
          </p:nvSpPr>
          <p:spPr>
            <a:xfrm>
              <a:off x="1333440" y="4940280"/>
              <a:ext cx="1143000" cy="83808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7"/>
            <p:cNvSpPr/>
            <p:nvPr/>
          </p:nvSpPr>
          <p:spPr>
            <a:xfrm>
              <a:off x="1185840" y="4794120"/>
              <a:ext cx="215640" cy="216000"/>
            </a:xfrm>
            <a:prstGeom prst="ellipse">
              <a:avLst/>
            </a:prstGeom>
            <a:solidFill>
              <a:srgbClr val="1f497d"/>
            </a:soli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19"/>
          <p:cNvSpPr/>
          <p:nvPr/>
        </p:nvSpPr>
        <p:spPr>
          <a:xfrm>
            <a:off x="5637240" y="3505320"/>
            <a:ext cx="266868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50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BEA6-53F3-41C8-92E4-B5FFCB0C6E28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ble Electron Configu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s react to achieve noble gas configu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ble gases have 8 valence electron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called the octet r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514600" y="4572000"/>
            <a:ext cx="19051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A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2978280" y="4502160"/>
            <a:ext cx="139680" cy="13968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3359160" y="4502160"/>
            <a:ext cx="139680" cy="13968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2292480" y="4883040"/>
            <a:ext cx="139680" cy="13968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2292480" y="5264280"/>
            <a:ext cx="139680" cy="13968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968640" y="4883040"/>
            <a:ext cx="139680" cy="13968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3968640" y="5264280"/>
            <a:ext cx="139680" cy="13968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1"/>
          <p:cNvSpPr/>
          <p:nvPr/>
        </p:nvSpPr>
        <p:spPr>
          <a:xfrm>
            <a:off x="2978280" y="5950080"/>
            <a:ext cx="139680" cy="13968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"/>
          <p:cNvSpPr/>
          <p:nvPr/>
        </p:nvSpPr>
        <p:spPr>
          <a:xfrm>
            <a:off x="3359160" y="5950080"/>
            <a:ext cx="139680" cy="13968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DB31-5BCE-43B9-A009-459AD1552493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8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3036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Bonding - th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als form positive 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metals form negative 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ons and cations are held together by opposite char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onic compounds are called sa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nd is formed through the transfer of electrons. (From metals to nonmetals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ns are transferred to achieve noble gas configu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ence electrons determine the formula. (Simplest ratio is called the formula unit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EB80-48E4-44CE-9D90-4813D5C1420E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3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77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9" dur="77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1" dur="77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3" dur="77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8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0" dur="2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447920" y="2743200"/>
            <a:ext cx="14475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3505320" y="2743200"/>
            <a:ext cx="114300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3733920" y="25909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4191120" y="25909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7"/>
          <p:cNvSpPr/>
          <p:nvPr/>
        </p:nvSpPr>
        <p:spPr>
          <a:xfrm>
            <a:off x="3733920" y="38862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8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1"/>
          <p:cNvGrpSpPr/>
          <p:nvPr/>
        </p:nvGrpSpPr>
        <p:grpSpPr>
          <a:xfrm>
            <a:off x="4572000" y="3048120"/>
            <a:ext cx="152280" cy="609480"/>
            <a:chOff x="4572000" y="3048120"/>
            <a:chExt cx="152280" cy="609480"/>
          </a:xfrm>
        </p:grpSpPr>
        <p:sp>
          <p:nvSpPr>
            <p:cNvPr id="191" name="Oval 9"/>
            <p:cNvSpPr/>
            <p:nvPr/>
          </p:nvSpPr>
          <p:spPr>
            <a:xfrm>
              <a:off x="4572000" y="3505320"/>
              <a:ext cx="152280" cy="152280"/>
            </a:xfrm>
            <a:prstGeom prst="ellips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4572000" y="3048120"/>
              <a:ext cx="152280" cy="152280"/>
            </a:xfrm>
            <a:prstGeom prst="ellips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Oval 12"/>
          <p:cNvSpPr/>
          <p:nvPr/>
        </p:nvSpPr>
        <p:spPr>
          <a:xfrm>
            <a:off x="3352680" y="34290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13"/>
          <p:cNvSpPr/>
          <p:nvPr/>
        </p:nvSpPr>
        <p:spPr>
          <a:xfrm>
            <a:off x="1841400" y="2135160"/>
            <a:ext cx="1530360" cy="90000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fill="none" w="38720" h="21600">
                <a:moveTo>
                  <a:pt x="0" y="8589"/>
                </a:moveTo>
                <a:cubicBezTo>
                  <a:pt x="4082" y="3180"/>
                  <a:pt x="10465" y="-1"/>
                  <a:pt x="17242" y="0"/>
                </a:cubicBezTo>
                <a:cubicBezTo>
                  <a:pt x="28284" y="0"/>
                  <a:pt x="37549" y="8329"/>
                  <a:pt x="38720" y="19309"/>
                </a:cubicBezTo>
              </a:path>
              <a:path stroke="0" w="38720" h="21600">
                <a:moveTo>
                  <a:pt x="0" y="8589"/>
                </a:moveTo>
                <a:cubicBezTo>
                  <a:pt x="4082" y="3180"/>
                  <a:pt x="10465" y="-1"/>
                  <a:pt x="17242" y="0"/>
                </a:cubicBezTo>
                <a:cubicBezTo>
                  <a:pt x="28284" y="0"/>
                  <a:pt x="37549" y="8329"/>
                  <a:pt x="38720" y="19309"/>
                </a:cubicBezTo>
                <a:lnTo>
                  <a:pt x="17242" y="21600"/>
                </a:lnTo>
                <a:lnTo>
                  <a:pt x="0" y="8589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3352680" y="29718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5"/>
          <p:cNvSpPr/>
          <p:nvPr/>
        </p:nvSpPr>
        <p:spPr>
          <a:xfrm>
            <a:off x="1719360" y="264780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6"/>
          <p:cNvSpPr/>
          <p:nvPr/>
        </p:nvSpPr>
        <p:spPr>
          <a:xfrm>
            <a:off x="1706400" y="2622600"/>
            <a:ext cx="179640" cy="204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8C0E-6695-4871-B84F-69B2D2AA718C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1447920" y="1371600"/>
            <a:ext cx="21333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505320" y="1371600"/>
            <a:ext cx="175248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en-US" sz="7500" spc="-1" strike="noStrike" baseline="60000">
                <a:solidFill>
                  <a:srgbClr val="000000"/>
                </a:solidFill>
                <a:latin typeface="Calibri"/>
              </a:rPr>
              <a:t>-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3733920" y="12193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4191120" y="12193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7"/>
          <p:cNvSpPr/>
          <p:nvPr/>
        </p:nvSpPr>
        <p:spPr>
          <a:xfrm>
            <a:off x="3733920" y="25146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4191120" y="25146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1"/>
          <p:cNvGrpSpPr/>
          <p:nvPr/>
        </p:nvGrpSpPr>
        <p:grpSpPr>
          <a:xfrm>
            <a:off x="4572000" y="1676520"/>
            <a:ext cx="152280" cy="609480"/>
            <a:chOff x="4572000" y="1676520"/>
            <a:chExt cx="152280" cy="609480"/>
          </a:xfrm>
        </p:grpSpPr>
        <p:sp>
          <p:nvSpPr>
            <p:cNvPr id="207" name="Oval 9"/>
            <p:cNvSpPr/>
            <p:nvPr/>
          </p:nvSpPr>
          <p:spPr>
            <a:xfrm>
              <a:off x="4572000" y="2133720"/>
              <a:ext cx="152280" cy="152280"/>
            </a:xfrm>
            <a:prstGeom prst="ellips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0"/>
            <p:cNvSpPr/>
            <p:nvPr/>
          </p:nvSpPr>
          <p:spPr>
            <a:xfrm>
              <a:off x="4572000" y="1676520"/>
              <a:ext cx="152280" cy="152280"/>
            </a:xfrm>
            <a:prstGeom prst="ellips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Oval 12"/>
          <p:cNvSpPr/>
          <p:nvPr/>
        </p:nvSpPr>
        <p:spPr>
          <a:xfrm>
            <a:off x="3352680" y="20574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"/>
          <p:cNvSpPr/>
          <p:nvPr/>
        </p:nvSpPr>
        <p:spPr>
          <a:xfrm>
            <a:off x="3352680" y="16002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533520" y="281952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lost 1 electron to form 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 gains 1 electron to form a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+ and – attract (force of attraction is called an ionic bond) holds the ions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tio is 1:1 so the formula is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5BE4-4B6B-40AD-9FD1-FEB09926512E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9440" y="2664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ing Electr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85280" y="1045800"/>
            <a:ext cx="830268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the formation of an ionic compound the total number of electrons lost (by metals in forming cations) must equal the total number of electrons gained (by non-metals in forming anion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 Group 2 loses 2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 Group 15 (5A) gains 3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keep totals equal a LCM of 6 is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x Ca = 3 x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x P   = 2 x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 lost (+6) = 6 gained (6-) Charges canc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68F6-141C-48A5-AAC2-0762E0860B12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he electrons must be accounted for, total lost = total gain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219320" y="3200400"/>
            <a:ext cx="1523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5"/>
          <p:cNvSpPr/>
          <p:nvPr/>
        </p:nvSpPr>
        <p:spPr>
          <a:xfrm>
            <a:off x="1600200" y="29718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2666880" y="35053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5638680" y="3200400"/>
            <a:ext cx="15242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8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9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6095880" y="42670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BA09-E710-4036-BA06-FFDC64BC5589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1219320" y="3200400"/>
            <a:ext cx="1523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4"/>
          <p:cNvSpPr/>
          <p:nvPr/>
        </p:nvSpPr>
        <p:spPr>
          <a:xfrm>
            <a:off x="1600200" y="29718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2666880" y="35053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5638680" y="3200400"/>
            <a:ext cx="15242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8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9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6095880" y="42670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1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rc 12"/>
          <p:cNvSpPr/>
          <p:nvPr/>
        </p:nvSpPr>
        <p:spPr>
          <a:xfrm>
            <a:off x="2743200" y="2287440"/>
            <a:ext cx="2738520" cy="1219320"/>
          </a:xfrm>
          <a:custGeom>
            <a:avLst/>
            <a:gdLst>
              <a:gd name="textAreaLeft" fmla="*/ 0 w 2738520"/>
              <a:gd name="textAreaRight" fmla="*/ 2738880 w 27385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fill="none" w="43169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456" y="0"/>
                  <a:pt x="-22981" y="8981"/>
                  <a:pt x="-22367" y="20445"/>
                </a:cubicBezTo>
              </a:path>
              <a:path stroke="0" w="43169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456" y="0"/>
                  <a:pt x="-22981" y="8981"/>
                  <a:pt x="-22367" y="20445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rc 13"/>
          <p:cNvSpPr/>
          <p:nvPr/>
        </p:nvSpPr>
        <p:spPr>
          <a:xfrm>
            <a:off x="1677960" y="1668600"/>
            <a:ext cx="4206960" cy="1317600"/>
          </a:xfrm>
          <a:custGeom>
            <a:avLst/>
            <a:gdLst>
              <a:gd name="textAreaLeft" fmla="*/ 0 w 4206960"/>
              <a:gd name="textAreaRight" fmla="*/ 4207320 w 4206960"/>
              <a:gd name="textAreaTop" fmla="*/ 0 h 1317600"/>
              <a:gd name="textAreaBottom" fmla="*/ 1317960 h 1317600"/>
            </a:gdLst>
            <a:ahLst/>
            <a:rect l="textAreaLeft" t="textAreaTop" r="textAreaRight" b="textAreaBottom"/>
            <a:pathLst>
              <a:path fill="none" w="43200" h="21971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723"/>
                  <a:pt x="-22338" y="21847"/>
                  <a:pt x="-22340" y="21970"/>
                </a:cubicBezTo>
              </a:path>
              <a:path stroke="0" w="43200" h="21971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723"/>
                  <a:pt x="-22338" y="21847"/>
                  <a:pt x="-22340" y="2197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1BB5-3238-4D66-B6DE-4967CBF04FB5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eping Track of Electr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1760" y="144756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lectrons responsible for the chemical properties of atoms are those in the outer energy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lence electrons – The electrons in the outer energy level (in valence shel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rnel (core) electrons -those in the energy levels below the valence shel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0770-197F-4A57-B326-51075B502D2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219320" y="3200400"/>
            <a:ext cx="23619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"/>
          <p:cNvSpPr/>
          <p:nvPr/>
        </p:nvSpPr>
        <p:spPr>
          <a:xfrm>
            <a:off x="5715000" y="30481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5"/>
          <p:cNvSpPr/>
          <p:nvPr/>
        </p:nvSpPr>
        <p:spPr>
          <a:xfrm>
            <a:off x="5410080" y="34290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5638680" y="3200400"/>
            <a:ext cx="15242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8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9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0"/>
          <p:cNvSpPr/>
          <p:nvPr/>
        </p:nvSpPr>
        <p:spPr>
          <a:xfrm>
            <a:off x="6095880" y="42670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1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78D0-035A-4CC8-B781-C7174AB307E8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1219320" y="3200400"/>
            <a:ext cx="23619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5715000" y="30481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5410080" y="34290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5638680" y="3200400"/>
            <a:ext cx="15242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7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8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6095880" y="42670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1295280" y="4724280"/>
            <a:ext cx="15242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1676520" y="44956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4"/>
          <p:cNvSpPr/>
          <p:nvPr/>
        </p:nvSpPr>
        <p:spPr>
          <a:xfrm>
            <a:off x="2743200" y="50292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rc 15"/>
          <p:cNvSpPr/>
          <p:nvPr/>
        </p:nvSpPr>
        <p:spPr>
          <a:xfrm>
            <a:off x="2971800" y="4400640"/>
            <a:ext cx="2819520" cy="7826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fill="none" w="21600" h="24650">
                <a:moveTo>
                  <a:pt x="21383" y="0"/>
                </a:moveTo>
                <a:cubicBezTo>
                  <a:pt x="21527" y="1010"/>
                  <a:pt x="21600" y="2029"/>
                  <a:pt x="21600" y="3050"/>
                </a:cubicBezTo>
                <a:cubicBezTo>
                  <a:pt x="21600" y="14979"/>
                  <a:pt x="11929" y="24649"/>
                  <a:pt x="0" y="24650"/>
                </a:cubicBezTo>
              </a:path>
              <a:path stroke="0" w="21600" h="24650">
                <a:moveTo>
                  <a:pt x="21383" y="0"/>
                </a:moveTo>
                <a:cubicBezTo>
                  <a:pt x="21527" y="1010"/>
                  <a:pt x="21600" y="2029"/>
                  <a:pt x="21600" y="3050"/>
                </a:cubicBezTo>
                <a:cubicBezTo>
                  <a:pt x="21600" y="14979"/>
                  <a:pt x="11929" y="24649"/>
                  <a:pt x="0" y="24650"/>
                </a:cubicBezTo>
                <a:lnTo>
                  <a:pt x="0" y="3050"/>
                </a:lnTo>
                <a:lnTo>
                  <a:pt x="2138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FBFA-D619-4C36-9155-29DD59AF35BC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219320" y="3200400"/>
            <a:ext cx="23619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4"/>
          <p:cNvSpPr/>
          <p:nvPr/>
        </p:nvSpPr>
        <p:spPr>
          <a:xfrm>
            <a:off x="5715000" y="30481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"/>
          <p:cNvSpPr/>
          <p:nvPr/>
        </p:nvSpPr>
        <p:spPr>
          <a:xfrm>
            <a:off x="5410080" y="34290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5638680" y="3200400"/>
            <a:ext cx="152424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7500" spc="-1" strike="noStrike" baseline="60000">
                <a:solidFill>
                  <a:srgbClr val="000000"/>
                </a:solidFill>
                <a:latin typeface="Calibri"/>
              </a:rPr>
              <a:t>3-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8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6095880" y="42670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1295280" y="4724280"/>
            <a:ext cx="15242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1676520" y="44956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5715000" y="42670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3292-1241-4397-80DC-EB6DD14E4398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219320" y="3200400"/>
            <a:ext cx="23619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4"/>
          <p:cNvSpPr/>
          <p:nvPr/>
        </p:nvSpPr>
        <p:spPr>
          <a:xfrm>
            <a:off x="5715000" y="30481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5410080" y="34290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5638680" y="3200400"/>
            <a:ext cx="152424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7500" spc="-1" strike="noStrike" baseline="60000">
                <a:solidFill>
                  <a:srgbClr val="000000"/>
                </a:solidFill>
                <a:latin typeface="Calibri"/>
              </a:rPr>
              <a:t>3-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095880" y="42670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1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1295280" y="4724280"/>
            <a:ext cx="15242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3"/>
          <p:cNvSpPr/>
          <p:nvPr/>
        </p:nvSpPr>
        <p:spPr>
          <a:xfrm>
            <a:off x="1676520" y="44956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4"/>
          <p:cNvSpPr/>
          <p:nvPr/>
        </p:nvSpPr>
        <p:spPr>
          <a:xfrm>
            <a:off x="5715000" y="42670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5"/>
          <p:cNvSpPr/>
          <p:nvPr/>
        </p:nvSpPr>
        <p:spPr>
          <a:xfrm>
            <a:off x="5257800" y="51055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5486400" y="4876920"/>
            <a:ext cx="1523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7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8"/>
          <p:cNvSpPr/>
          <p:nvPr/>
        </p:nvSpPr>
        <p:spPr>
          <a:xfrm>
            <a:off x="6324480" y="51055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9"/>
          <p:cNvSpPr/>
          <p:nvPr/>
        </p:nvSpPr>
        <p:spPr>
          <a:xfrm>
            <a:off x="6324480" y="54864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0"/>
          <p:cNvSpPr/>
          <p:nvPr/>
        </p:nvSpPr>
        <p:spPr>
          <a:xfrm>
            <a:off x="5943600" y="59436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rc 21"/>
          <p:cNvSpPr/>
          <p:nvPr/>
        </p:nvSpPr>
        <p:spPr>
          <a:xfrm>
            <a:off x="533520" y="4573440"/>
            <a:ext cx="5032080" cy="1598760"/>
          </a:xfrm>
          <a:custGeom>
            <a:avLst/>
            <a:gdLst>
              <a:gd name="textAreaLeft" fmla="*/ 0 w 5032080"/>
              <a:gd name="textAreaRight" fmla="*/ 5032440 w 5032080"/>
              <a:gd name="textAreaTop" fmla="*/ 0 h 1598760"/>
              <a:gd name="textAreaBottom" fmla="*/ 1599120 h 1598760"/>
            </a:gdLst>
            <a:ahLst/>
            <a:rect l="textAreaLeft" t="textAreaTop" r="textAreaRight" b="textAreaBottom"/>
            <a:pathLst>
              <a:path fill="none" w="33992" h="38858">
                <a:moveTo>
                  <a:pt x="33991" y="34949"/>
                </a:moveTo>
                <a:cubicBezTo>
                  <a:pt x="30360" y="37493"/>
                  <a:pt x="26033" y="38857"/>
                  <a:pt x="21600" y="38858"/>
                </a:cubicBezTo>
                <a:cubicBezTo>
                  <a:pt x="9670" y="38858"/>
                  <a:pt x="0" y="29187"/>
                  <a:pt x="0" y="17258"/>
                </a:cubicBezTo>
                <a:cubicBezTo>
                  <a:pt x="-1" y="10472"/>
                  <a:pt x="3189" y="4080"/>
                  <a:pt x="8610" y="-1"/>
                </a:cubicBezTo>
              </a:path>
              <a:path stroke="0" w="33992" h="38858">
                <a:moveTo>
                  <a:pt x="33991" y="34949"/>
                </a:moveTo>
                <a:cubicBezTo>
                  <a:pt x="30360" y="37493"/>
                  <a:pt x="26033" y="38857"/>
                  <a:pt x="21600" y="38858"/>
                </a:cubicBezTo>
                <a:cubicBezTo>
                  <a:pt x="9670" y="38858"/>
                  <a:pt x="0" y="29187"/>
                  <a:pt x="0" y="17258"/>
                </a:cubicBezTo>
                <a:cubicBezTo>
                  <a:pt x="-1" y="10472"/>
                  <a:pt x="3189" y="4080"/>
                  <a:pt x="8610" y="-1"/>
                </a:cubicBezTo>
                <a:lnTo>
                  <a:pt x="21600" y="17258"/>
                </a:lnTo>
                <a:lnTo>
                  <a:pt x="33991" y="34949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B1E3-FB7B-4EC0-88E5-C90981E2378B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1219320" y="3200400"/>
            <a:ext cx="23619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"/>
          <p:cNvSpPr/>
          <p:nvPr/>
        </p:nvSpPr>
        <p:spPr>
          <a:xfrm>
            <a:off x="5715000" y="30481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"/>
          <p:cNvSpPr/>
          <p:nvPr/>
        </p:nvSpPr>
        <p:spPr>
          <a:xfrm>
            <a:off x="5410080" y="34290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5638680" y="3200400"/>
            <a:ext cx="152424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7500" spc="-1" strike="noStrike" baseline="60000">
                <a:solidFill>
                  <a:srgbClr val="000000"/>
                </a:solidFill>
                <a:latin typeface="Calibri"/>
              </a:rPr>
              <a:t>3-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8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9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0"/>
          <p:cNvSpPr/>
          <p:nvPr/>
        </p:nvSpPr>
        <p:spPr>
          <a:xfrm>
            <a:off x="6095880" y="42670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1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1295280" y="4724280"/>
            <a:ext cx="274320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3"/>
          <p:cNvSpPr/>
          <p:nvPr/>
        </p:nvSpPr>
        <p:spPr>
          <a:xfrm>
            <a:off x="5562720" y="59436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4"/>
          <p:cNvSpPr/>
          <p:nvPr/>
        </p:nvSpPr>
        <p:spPr>
          <a:xfrm>
            <a:off x="5715000" y="42670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5"/>
          <p:cNvSpPr/>
          <p:nvPr/>
        </p:nvSpPr>
        <p:spPr>
          <a:xfrm>
            <a:off x="5257800" y="51055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6"/>
          <p:cNvSpPr/>
          <p:nvPr/>
        </p:nvSpPr>
        <p:spPr>
          <a:xfrm>
            <a:off x="5486400" y="4876920"/>
            <a:ext cx="1523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8"/>
          <p:cNvSpPr/>
          <p:nvPr/>
        </p:nvSpPr>
        <p:spPr>
          <a:xfrm>
            <a:off x="6324480" y="51055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9"/>
          <p:cNvSpPr/>
          <p:nvPr/>
        </p:nvSpPr>
        <p:spPr>
          <a:xfrm>
            <a:off x="6324480" y="54864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0"/>
          <p:cNvSpPr/>
          <p:nvPr/>
        </p:nvSpPr>
        <p:spPr>
          <a:xfrm>
            <a:off x="5943600" y="59436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2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4BEF-DA72-4534-8C0C-AA53EDBCB042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219320" y="3200400"/>
            <a:ext cx="23619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"/>
          <p:cNvSpPr/>
          <p:nvPr/>
        </p:nvSpPr>
        <p:spPr>
          <a:xfrm>
            <a:off x="5715000" y="30481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5"/>
          <p:cNvSpPr/>
          <p:nvPr/>
        </p:nvSpPr>
        <p:spPr>
          <a:xfrm>
            <a:off x="5410080" y="34290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638680" y="3200400"/>
            <a:ext cx="152424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7500" spc="-1" strike="noStrike" baseline="60000">
                <a:solidFill>
                  <a:srgbClr val="000000"/>
                </a:solidFill>
                <a:latin typeface="Calibri"/>
              </a:rPr>
              <a:t>3-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9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6095880" y="42670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1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1295280" y="4724280"/>
            <a:ext cx="274320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3"/>
          <p:cNvSpPr/>
          <p:nvPr/>
        </p:nvSpPr>
        <p:spPr>
          <a:xfrm>
            <a:off x="5562720" y="59436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4"/>
          <p:cNvSpPr/>
          <p:nvPr/>
        </p:nvSpPr>
        <p:spPr>
          <a:xfrm>
            <a:off x="5715000" y="42670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5"/>
          <p:cNvSpPr/>
          <p:nvPr/>
        </p:nvSpPr>
        <p:spPr>
          <a:xfrm>
            <a:off x="5257800" y="51055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5486400" y="4876920"/>
            <a:ext cx="1523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7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8"/>
          <p:cNvSpPr/>
          <p:nvPr/>
        </p:nvSpPr>
        <p:spPr>
          <a:xfrm>
            <a:off x="6324480" y="51055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9"/>
          <p:cNvSpPr/>
          <p:nvPr/>
        </p:nvSpPr>
        <p:spPr>
          <a:xfrm>
            <a:off x="6324480" y="54864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20"/>
          <p:cNvSpPr/>
          <p:nvPr/>
        </p:nvSpPr>
        <p:spPr>
          <a:xfrm>
            <a:off x="5943600" y="59436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1295280" y="1981080"/>
            <a:ext cx="15242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2"/>
          <p:cNvSpPr/>
          <p:nvPr/>
        </p:nvSpPr>
        <p:spPr>
          <a:xfrm>
            <a:off x="1676520" y="17524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3"/>
          <p:cNvSpPr/>
          <p:nvPr/>
        </p:nvSpPr>
        <p:spPr>
          <a:xfrm>
            <a:off x="2743200" y="2286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5B4D-41D1-4818-A955-8CF4A47F6EC8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1219320" y="3200400"/>
            <a:ext cx="23619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4"/>
          <p:cNvSpPr/>
          <p:nvPr/>
        </p:nvSpPr>
        <p:spPr>
          <a:xfrm>
            <a:off x="5715000" y="30481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5"/>
          <p:cNvSpPr/>
          <p:nvPr/>
        </p:nvSpPr>
        <p:spPr>
          <a:xfrm>
            <a:off x="5410080" y="34290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5638680" y="3200400"/>
            <a:ext cx="15242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7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8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9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6095880" y="42670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1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1295280" y="4724280"/>
            <a:ext cx="274320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3"/>
          <p:cNvSpPr/>
          <p:nvPr/>
        </p:nvSpPr>
        <p:spPr>
          <a:xfrm>
            <a:off x="5562720" y="59436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4"/>
          <p:cNvSpPr/>
          <p:nvPr/>
        </p:nvSpPr>
        <p:spPr>
          <a:xfrm>
            <a:off x="5715000" y="42670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5"/>
          <p:cNvSpPr/>
          <p:nvPr/>
        </p:nvSpPr>
        <p:spPr>
          <a:xfrm>
            <a:off x="5257800" y="51055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6"/>
          <p:cNvSpPr/>
          <p:nvPr/>
        </p:nvSpPr>
        <p:spPr>
          <a:xfrm>
            <a:off x="5486400" y="4876920"/>
            <a:ext cx="1523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7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8"/>
          <p:cNvSpPr/>
          <p:nvPr/>
        </p:nvSpPr>
        <p:spPr>
          <a:xfrm>
            <a:off x="6324480" y="51055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9"/>
          <p:cNvSpPr/>
          <p:nvPr/>
        </p:nvSpPr>
        <p:spPr>
          <a:xfrm>
            <a:off x="6324480" y="54864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0"/>
          <p:cNvSpPr/>
          <p:nvPr/>
        </p:nvSpPr>
        <p:spPr>
          <a:xfrm>
            <a:off x="5943600" y="59436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1"/>
          <p:cNvSpPr/>
          <p:nvPr/>
        </p:nvSpPr>
        <p:spPr>
          <a:xfrm>
            <a:off x="1295280" y="1981080"/>
            <a:ext cx="15242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22"/>
          <p:cNvSpPr/>
          <p:nvPr/>
        </p:nvSpPr>
        <p:spPr>
          <a:xfrm>
            <a:off x="1676520" y="17524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23"/>
          <p:cNvSpPr/>
          <p:nvPr/>
        </p:nvSpPr>
        <p:spPr>
          <a:xfrm>
            <a:off x="2743200" y="2286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rc 24"/>
          <p:cNvSpPr/>
          <p:nvPr/>
        </p:nvSpPr>
        <p:spPr>
          <a:xfrm>
            <a:off x="1752480" y="1830240"/>
            <a:ext cx="4038840" cy="297180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rc 25"/>
          <p:cNvSpPr/>
          <p:nvPr/>
        </p:nvSpPr>
        <p:spPr>
          <a:xfrm>
            <a:off x="2895480" y="2363760"/>
            <a:ext cx="2438640" cy="32004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2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B68A-BE66-4FAF-8B39-172B7BE6509D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1219320" y="3200400"/>
            <a:ext cx="23619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"/>
          <p:cNvSpPr/>
          <p:nvPr/>
        </p:nvSpPr>
        <p:spPr>
          <a:xfrm>
            <a:off x="5715000" y="30481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5410080" y="34290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5638680" y="3200400"/>
            <a:ext cx="152424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7500" spc="-1" strike="noStrike" baseline="60000">
                <a:solidFill>
                  <a:srgbClr val="000000"/>
                </a:solidFill>
                <a:latin typeface="Calibri"/>
              </a:rPr>
              <a:t>3-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7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8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9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0"/>
          <p:cNvSpPr/>
          <p:nvPr/>
        </p:nvSpPr>
        <p:spPr>
          <a:xfrm>
            <a:off x="6095880" y="42670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1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1295280" y="4724280"/>
            <a:ext cx="274320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3"/>
          <p:cNvSpPr/>
          <p:nvPr/>
        </p:nvSpPr>
        <p:spPr>
          <a:xfrm>
            <a:off x="5562720" y="59436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4"/>
          <p:cNvSpPr/>
          <p:nvPr/>
        </p:nvSpPr>
        <p:spPr>
          <a:xfrm>
            <a:off x="5715000" y="42670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5"/>
          <p:cNvSpPr/>
          <p:nvPr/>
        </p:nvSpPr>
        <p:spPr>
          <a:xfrm>
            <a:off x="5257800" y="51055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5486400" y="4876920"/>
            <a:ext cx="190512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7500" spc="-1" strike="noStrike" baseline="60000">
                <a:solidFill>
                  <a:srgbClr val="000000"/>
                </a:solidFill>
                <a:latin typeface="Calibri"/>
              </a:rPr>
              <a:t>3-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7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8"/>
          <p:cNvSpPr/>
          <p:nvPr/>
        </p:nvSpPr>
        <p:spPr>
          <a:xfrm>
            <a:off x="6324480" y="51055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9"/>
          <p:cNvSpPr/>
          <p:nvPr/>
        </p:nvSpPr>
        <p:spPr>
          <a:xfrm>
            <a:off x="6324480" y="54864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0"/>
          <p:cNvSpPr/>
          <p:nvPr/>
        </p:nvSpPr>
        <p:spPr>
          <a:xfrm>
            <a:off x="5943600" y="59436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1"/>
          <p:cNvSpPr/>
          <p:nvPr/>
        </p:nvSpPr>
        <p:spPr>
          <a:xfrm>
            <a:off x="1295280" y="1981080"/>
            <a:ext cx="236232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22"/>
          <p:cNvSpPr/>
          <p:nvPr/>
        </p:nvSpPr>
        <p:spPr>
          <a:xfrm>
            <a:off x="5562720" y="47242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23"/>
          <p:cNvSpPr/>
          <p:nvPr/>
        </p:nvSpPr>
        <p:spPr>
          <a:xfrm>
            <a:off x="5257800" y="54864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EC72-7748-45CA-9AFF-DB4816A1D1FC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276720" y="2971800"/>
            <a:ext cx="2743200" cy="13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7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3200400" y="2590920"/>
            <a:ext cx="3124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rmula Un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6"/>
          <p:cNvSpPr/>
          <p:nvPr/>
        </p:nvSpPr>
        <p:spPr>
          <a:xfrm>
            <a:off x="685800" y="191304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The Ca to P ratio is 3:2 s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6"/>
          <p:cNvSpPr/>
          <p:nvPr/>
        </p:nvSpPr>
        <p:spPr>
          <a:xfrm>
            <a:off x="2971800" y="41911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x 2+ = 6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x 3 – = 6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+  +      6– 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#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st = #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ain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7AFB-62F8-454C-B5EF-F87748D32023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3" descr="IUPAC_Periodic_Table.png"/>
          <p:cNvPicPr/>
          <p:nvPr/>
        </p:nvPicPr>
        <p:blipFill>
          <a:blip r:embed="rId1"/>
          <a:stretch/>
        </p:blipFill>
        <p:spPr>
          <a:xfrm>
            <a:off x="0" y="1279440"/>
            <a:ext cx="9144000" cy="4299120"/>
          </a:xfrm>
          <a:prstGeom prst="rect">
            <a:avLst/>
          </a:prstGeom>
          <a:ln w="0">
            <a:noFill/>
          </a:ln>
        </p:spPr>
      </p:pic>
      <p:sp>
        <p:nvSpPr>
          <p:cNvPr id="400" name="TextBox 2"/>
          <p:cNvSpPr/>
          <p:nvPr/>
        </p:nvSpPr>
        <p:spPr>
          <a:xfrm>
            <a:off x="380880" y="9907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1     +2                                                                               +3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   -3    -2    -1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1600200" y="19051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ost Transition Metals do not have form cations of one fixed charge, they tend to have variable char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3871-B678-4D01-9B14-67DAC9217B7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48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eping Track of Electr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4960" y="1447560"/>
            <a:ext cx="8483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in the same colum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the same number of outer electrons (valence electr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ily found by looking up the group number on the periodic 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2 - Be, Mg, Ca, .- 2 valence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st digit in the representative group number gives the number of valence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4EF1-8BC5-4129-9931-EA191897483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erties of Ionic compound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melting po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uct electricity when dissolved in water or in molten stat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do not conduct electricity in solid state because the electrons are not able to m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onic substances tend to be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electrolyt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a substance that dissolves in water to produce a solution that will conduct electri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lid are a crystal latt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5" descr="b1"/>
          <p:cNvPicPr/>
          <p:nvPr/>
        </p:nvPicPr>
        <p:blipFill>
          <a:blip r:embed="rId1"/>
          <a:stretch/>
        </p:blipFill>
        <p:spPr>
          <a:xfrm>
            <a:off x="4521240" y="3429000"/>
            <a:ext cx="3403440" cy="3352680"/>
          </a:xfrm>
          <a:prstGeom prst="rect">
            <a:avLst/>
          </a:prstGeom>
          <a:ln w="0">
            <a:noFill/>
          </a:ln>
        </p:spPr>
      </p:pic>
      <p:sp>
        <p:nvSpPr>
          <p:cNvPr id="4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9844-0623-4339-ABA0-237D07C88D82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common binary ionic compound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4572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Cl – table sa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Cl – pot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perspir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road sa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5" descr="MCj03052670000[1]"/>
          <p:cNvPicPr/>
          <p:nvPr/>
        </p:nvPicPr>
        <p:blipFill>
          <a:blip r:embed="rId1"/>
          <a:stretch/>
        </p:blipFill>
        <p:spPr>
          <a:xfrm>
            <a:off x="5486400" y="3063960"/>
            <a:ext cx="3200400" cy="2754360"/>
          </a:xfrm>
          <a:prstGeom prst="rect">
            <a:avLst/>
          </a:prstGeom>
          <a:ln w="0">
            <a:noFill/>
          </a:ln>
        </p:spPr>
      </p:pic>
      <p:sp>
        <p:nvSpPr>
          <p:cNvPr id="4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DE9E-9147-4C0D-B1CD-33E94D786181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ing fixed binary ionic comp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onic compounds are formed between metals and non-metals.  When naming them, we name the Cation (metal) first, then we name the anion (non-metal) last- changing the last part of the name of the element to “ide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chlorine – chlor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xygen – ox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trogen - nitr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2F35-73A8-4DC0-A770-D72BEBFCB71B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32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Calibri"/>
              </a:rPr>
              <a:t>Formula Writing and Naming:</a:t>
            </a:r>
            <a:br>
              <a:rPr sz="4400"/>
            </a:br>
            <a:r>
              <a:rPr b="0" lang="en-US" sz="4400" spc="-1" strike="noStrike">
                <a:solidFill>
                  <a:srgbClr val="33ccff"/>
                </a:solidFill>
                <a:latin typeface="Calibri"/>
              </a:rPr>
              <a:t>Fixed Binary ionic comp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4" descr="kcllewis"/>
          <p:cNvPicPr/>
          <p:nvPr/>
        </p:nvPicPr>
        <p:blipFill>
          <a:blip r:embed="rId1"/>
          <a:stretch/>
        </p:blipFill>
        <p:spPr>
          <a:xfrm>
            <a:off x="1981080" y="2514600"/>
            <a:ext cx="7162920" cy="3286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164628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mula: write the cation first and anion la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me: Name the cation first (use the element nam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me the anion but change the ending to “ide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, </a:t>
            </a:r>
            <a:r>
              <a:rPr b="0" lang="en-US" sz="2800" spc="-1" strike="noStrike">
                <a:solidFill>
                  <a:srgbClr val="33ccff"/>
                </a:solidFill>
                <a:latin typeface="Calibri"/>
              </a:rPr>
              <a:t>Formula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KC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33ccff"/>
                </a:solidFill>
                <a:latin typeface="Calibri"/>
              </a:rPr>
              <a:t>Name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otassium chlor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5903-3F6D-46CC-B163-008D3C7F0555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Calibri"/>
              </a:rPr>
              <a:t>Example- Show the formation of the compound formed between Na and 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ula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: sodium ox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5" descr="dotmove"/>
          <p:cNvPicPr/>
          <p:nvPr/>
        </p:nvPicPr>
        <p:blipFill>
          <a:blip r:embed="rId1"/>
          <a:stretch/>
        </p:blipFill>
        <p:spPr>
          <a:xfrm>
            <a:off x="228600" y="2133720"/>
            <a:ext cx="2971800" cy="25444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9" descr="nao"/>
          <p:cNvPicPr/>
          <p:nvPr/>
        </p:nvPicPr>
        <p:blipFill>
          <a:blip r:embed="rId2"/>
          <a:stretch/>
        </p:blipFill>
        <p:spPr>
          <a:xfrm>
            <a:off x="5181480" y="1981080"/>
            <a:ext cx="3581640" cy="2673360"/>
          </a:xfrm>
          <a:prstGeom prst="rect">
            <a:avLst/>
          </a:prstGeom>
          <a:ln w="0">
            <a:noFill/>
          </a:ln>
        </p:spPr>
      </p:pic>
      <p:sp>
        <p:nvSpPr>
          <p:cNvPr id="422" name="AutoShape 10"/>
          <p:cNvSpPr/>
          <p:nvPr/>
        </p:nvSpPr>
        <p:spPr>
          <a:xfrm>
            <a:off x="3352680" y="3048120"/>
            <a:ext cx="1676520" cy="9144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903C-6956-4A1E-903E-12B7BFD3709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Show the formation of CaCl</a:t>
            </a:r>
            <a:r>
              <a:rPr b="1" lang="en-CA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: calcium chlor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5" descr="cacl"/>
          <p:cNvPicPr/>
          <p:nvPr/>
        </p:nvPicPr>
        <p:blipFill>
          <a:blip r:embed="rId1"/>
          <a:stretch/>
        </p:blipFill>
        <p:spPr>
          <a:xfrm>
            <a:off x="533520" y="2209680"/>
            <a:ext cx="8076960" cy="2160720"/>
          </a:xfrm>
          <a:prstGeom prst="rect">
            <a:avLst/>
          </a:prstGeom>
          <a:ln w="0">
            <a:noFill/>
          </a:ln>
        </p:spPr>
      </p:pic>
      <p:sp>
        <p:nvSpPr>
          <p:cNvPr id="4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5860-62F2-41EE-BB3A-B189D106A1DD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Show the formation of the following fixed binary ionic compounds using electron-dot structures (Lewis structures). Also write the names of the compou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a)  K</a:t>
            </a:r>
            <a:r>
              <a:rPr b="1" lang="en-CA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b)  Na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c)  Al</a:t>
            </a:r>
            <a:r>
              <a:rPr b="1" lang="en-CA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CA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dict the formula and name the compounds formed when the following elements rea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a)  K and 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b)  Li</a:t>
            </a:r>
            <a:r>
              <a:rPr b="1" lang="en-CA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and 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c)  Mg and 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B18A-9D94-4A9B-A2E2-63EDB1527265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rite the formula and the name for the ionic compound formed from each of the following 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)  Ca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and Cl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)  Al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and N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)  Be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  and O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)  Be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and N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)  K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 +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and S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1F55-D56B-42E8-A8AB-D9C93EBACDE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04920" y="457200"/>
            <a:ext cx="533376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: Name the following binary ionic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M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Zn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) Ca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) LiC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) Cs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) NaB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) B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) HC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"/>
          <p:cNvSpPr/>
          <p:nvPr/>
        </p:nvSpPr>
        <p:spPr>
          <a:xfrm>
            <a:off x="2286000" y="1447920"/>
            <a:ext cx="4952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uminum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nit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nc 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h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sium 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65EF-9727-49E4-9C37-6AC66F3AAFB7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4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4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bout those ones in the “middle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s, so they form positive ions (ca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can form different ions (variable charge) eg,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5" descr="[Image:Periodic Table with Highlighted Elements]"/>
          <p:cNvPicPr/>
          <p:nvPr/>
        </p:nvPicPr>
        <p:blipFill>
          <a:blip r:embed="rId1"/>
          <a:stretch/>
        </p:blipFill>
        <p:spPr>
          <a:xfrm>
            <a:off x="914400" y="2944800"/>
            <a:ext cx="7162920" cy="3913200"/>
          </a:xfrm>
          <a:prstGeom prst="rect">
            <a:avLst/>
          </a:prstGeom>
          <a:ln w="0">
            <a:noFill/>
          </a:ln>
        </p:spPr>
      </p:pic>
      <p:sp>
        <p:nvSpPr>
          <p:cNvPr id="4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6DC2-38A8-401C-B6A5-60F6DCEB600D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080" y="609480"/>
            <a:ext cx="85266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ectron Dot diagrams (Lewis Structur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5486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way of keeping track of valence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write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the symb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one dot for each valence elect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pair up until they hav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629400" y="2590920"/>
            <a:ext cx="144792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6788160" y="2444760"/>
            <a:ext cx="21600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7550280" y="2444760"/>
            <a:ext cx="21564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6254640" y="3206880"/>
            <a:ext cx="216000" cy="21564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6254640" y="3816360"/>
            <a:ext cx="21600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6864480" y="4578480"/>
            <a:ext cx="215640" cy="21564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7626240" y="4578480"/>
            <a:ext cx="216000" cy="21564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1"/>
          <p:cNvSpPr/>
          <p:nvPr/>
        </p:nvSpPr>
        <p:spPr>
          <a:xfrm>
            <a:off x="8159760" y="3206880"/>
            <a:ext cx="216000" cy="21564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2"/>
          <p:cNvSpPr/>
          <p:nvPr/>
        </p:nvSpPr>
        <p:spPr>
          <a:xfrm>
            <a:off x="8159760" y="3816360"/>
            <a:ext cx="21600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06D9-D312-4FBF-89DA-8CCC47F08ACE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5" descr="ions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5643720"/>
          </a:xfrm>
          <a:prstGeom prst="rect">
            <a:avLst/>
          </a:prstGeom>
          <a:ln w="0">
            <a:noFill/>
          </a:ln>
        </p:spPr>
      </p:pic>
      <p:sp>
        <p:nvSpPr>
          <p:cNvPr id="44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F863-ED5A-471A-93B3-EF658540B72E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ing variable binary ionic comp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onic compounds formed between metals with variable charge and non-metals.  When naming them, we name the metal first and state the charge in Roman numerals in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bracke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, then we name the non-metal last- changing the last part of the name of the element to “ide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an numera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– 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– IV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 – VI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– X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– I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– V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 – VII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– II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 – V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 – I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B3A6-5E45-457A-AA28-F597856C00B4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onic compounds with transition metal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on(III) chlor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+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pper(I) sulf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Oval 4"/>
          <p:cNvSpPr/>
          <p:nvPr/>
        </p:nvSpPr>
        <p:spPr>
          <a:xfrm>
            <a:off x="3429000" y="21337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7"/>
          <p:cNvSpPr/>
          <p:nvPr/>
        </p:nvSpPr>
        <p:spPr>
          <a:xfrm>
            <a:off x="3276720" y="2133720"/>
            <a:ext cx="7596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8"/>
          <p:cNvSpPr/>
          <p:nvPr/>
        </p:nvSpPr>
        <p:spPr>
          <a:xfrm>
            <a:off x="3124080" y="22860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9"/>
          <p:cNvSpPr/>
          <p:nvPr/>
        </p:nvSpPr>
        <p:spPr>
          <a:xfrm>
            <a:off x="3124080" y="243828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0"/>
          <p:cNvSpPr/>
          <p:nvPr/>
        </p:nvSpPr>
        <p:spPr>
          <a:xfrm>
            <a:off x="3276720" y="2590920"/>
            <a:ext cx="7596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1"/>
          <p:cNvSpPr/>
          <p:nvPr/>
        </p:nvSpPr>
        <p:spPr>
          <a:xfrm>
            <a:off x="3429000" y="25909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3"/>
          <p:cNvSpPr/>
          <p:nvPr/>
        </p:nvSpPr>
        <p:spPr>
          <a:xfrm>
            <a:off x="4114800" y="30481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4"/>
          <p:cNvSpPr/>
          <p:nvPr/>
        </p:nvSpPr>
        <p:spPr>
          <a:xfrm>
            <a:off x="4114800" y="32004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5"/>
          <p:cNvSpPr/>
          <p:nvPr/>
        </p:nvSpPr>
        <p:spPr>
          <a:xfrm>
            <a:off x="4191120" y="3352680"/>
            <a:ext cx="7596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6"/>
          <p:cNvSpPr/>
          <p:nvPr/>
        </p:nvSpPr>
        <p:spPr>
          <a:xfrm>
            <a:off x="4343400" y="335268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7"/>
          <p:cNvSpPr/>
          <p:nvPr/>
        </p:nvSpPr>
        <p:spPr>
          <a:xfrm>
            <a:off x="4572000" y="30481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8"/>
          <p:cNvSpPr/>
          <p:nvPr/>
        </p:nvSpPr>
        <p:spPr>
          <a:xfrm>
            <a:off x="4572000" y="32004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9"/>
          <p:cNvSpPr/>
          <p:nvPr/>
        </p:nvSpPr>
        <p:spPr>
          <a:xfrm>
            <a:off x="4267080" y="289548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20"/>
          <p:cNvSpPr/>
          <p:nvPr/>
        </p:nvSpPr>
        <p:spPr>
          <a:xfrm>
            <a:off x="5105520" y="2133720"/>
            <a:ext cx="7596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1"/>
          <p:cNvSpPr/>
          <p:nvPr/>
        </p:nvSpPr>
        <p:spPr>
          <a:xfrm>
            <a:off x="5257800" y="21337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2"/>
          <p:cNvSpPr/>
          <p:nvPr/>
        </p:nvSpPr>
        <p:spPr>
          <a:xfrm>
            <a:off x="5410080" y="22860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23"/>
          <p:cNvSpPr/>
          <p:nvPr/>
        </p:nvSpPr>
        <p:spPr>
          <a:xfrm>
            <a:off x="5410080" y="243828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24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25"/>
          <p:cNvSpPr/>
          <p:nvPr/>
        </p:nvSpPr>
        <p:spPr>
          <a:xfrm>
            <a:off x="5105520" y="2514600"/>
            <a:ext cx="7596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26"/>
          <p:cNvSpPr/>
          <p:nvPr/>
        </p:nvSpPr>
        <p:spPr>
          <a:xfrm>
            <a:off x="4952880" y="23623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27"/>
          <p:cNvSpPr/>
          <p:nvPr/>
        </p:nvSpPr>
        <p:spPr>
          <a:xfrm>
            <a:off x="4572000" y="22860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28"/>
          <p:cNvSpPr/>
          <p:nvPr/>
        </p:nvSpPr>
        <p:spPr>
          <a:xfrm>
            <a:off x="4343400" y="25146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29"/>
          <p:cNvSpPr/>
          <p:nvPr/>
        </p:nvSpPr>
        <p:spPr>
          <a:xfrm>
            <a:off x="4038480" y="22860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30"/>
          <p:cNvSpPr/>
          <p:nvPr/>
        </p:nvSpPr>
        <p:spPr>
          <a:xfrm>
            <a:off x="4191120" y="4419720"/>
            <a:ext cx="7596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1"/>
          <p:cNvSpPr/>
          <p:nvPr/>
        </p:nvSpPr>
        <p:spPr>
          <a:xfrm>
            <a:off x="4343400" y="44197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2"/>
          <p:cNvSpPr/>
          <p:nvPr/>
        </p:nvSpPr>
        <p:spPr>
          <a:xfrm>
            <a:off x="4191120" y="4876920"/>
            <a:ext cx="7596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3"/>
          <p:cNvSpPr/>
          <p:nvPr/>
        </p:nvSpPr>
        <p:spPr>
          <a:xfrm>
            <a:off x="4343400" y="48769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34"/>
          <p:cNvSpPr/>
          <p:nvPr/>
        </p:nvSpPr>
        <p:spPr>
          <a:xfrm>
            <a:off x="4495680" y="46483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35"/>
          <p:cNvSpPr/>
          <p:nvPr/>
        </p:nvSpPr>
        <p:spPr>
          <a:xfrm>
            <a:off x="4038480" y="46483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36"/>
          <p:cNvSpPr/>
          <p:nvPr/>
        </p:nvSpPr>
        <p:spPr>
          <a:xfrm>
            <a:off x="5029200" y="46483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40"/>
          <p:cNvSpPr/>
          <p:nvPr/>
        </p:nvSpPr>
        <p:spPr>
          <a:xfrm rot="5025000">
            <a:off x="3580920" y="1676160"/>
            <a:ext cx="495360" cy="495360"/>
          </a:xfrm>
          <a:custGeom>
            <a:avLst/>
            <a:gdLst>
              <a:gd name="textAreaLeft" fmla="*/ 66240 w 495360"/>
              <a:gd name="textAreaRight" fmla="*/ 429120 w 495360"/>
              <a:gd name="textAreaTop" fmla="*/ 86400 h 495360"/>
              <a:gd name="textAreaBottom" fmla="*/ 359280 h 49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41"/>
          <p:cNvSpPr/>
          <p:nvPr/>
        </p:nvSpPr>
        <p:spPr>
          <a:xfrm>
            <a:off x="4572000" y="1752480"/>
            <a:ext cx="533520" cy="381240"/>
          </a:xfrm>
          <a:custGeom>
            <a:avLst/>
            <a:gdLst>
              <a:gd name="textAreaLeft" fmla="*/ 93240 w 533520"/>
              <a:gd name="textAreaRight" fmla="*/ 387000 w 53352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2"/>
          <p:cNvSpPr/>
          <p:nvPr/>
        </p:nvSpPr>
        <p:spPr>
          <a:xfrm rot="5140200">
            <a:off x="4495680" y="2590560"/>
            <a:ext cx="533520" cy="380880"/>
          </a:xfrm>
          <a:custGeom>
            <a:avLst/>
            <a:gdLst>
              <a:gd name="textAreaLeft" fmla="*/ 93240 w 533520"/>
              <a:gd name="textAreaRight" fmla="*/ 387000 w 5335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45"/>
          <p:cNvSpPr/>
          <p:nvPr/>
        </p:nvSpPr>
        <p:spPr>
          <a:xfrm>
            <a:off x="3733920" y="4724280"/>
            <a:ext cx="7596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6"/>
          <p:cNvSpPr/>
          <p:nvPr/>
        </p:nvSpPr>
        <p:spPr>
          <a:xfrm rot="5025000">
            <a:off x="3580920" y="4038120"/>
            <a:ext cx="495360" cy="495360"/>
          </a:xfrm>
          <a:custGeom>
            <a:avLst/>
            <a:gdLst>
              <a:gd name="textAreaLeft" fmla="*/ 66240 w 495360"/>
              <a:gd name="textAreaRight" fmla="*/ 429120 w 495360"/>
              <a:gd name="textAreaTop" fmla="*/ 86400 h 495360"/>
              <a:gd name="textAreaBottom" fmla="*/ 359280 h 49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47"/>
          <p:cNvSpPr/>
          <p:nvPr/>
        </p:nvSpPr>
        <p:spPr>
          <a:xfrm>
            <a:off x="4572000" y="4114800"/>
            <a:ext cx="533520" cy="380880"/>
          </a:xfrm>
          <a:custGeom>
            <a:avLst/>
            <a:gdLst>
              <a:gd name="textAreaLeft" fmla="*/ 93240 w 533520"/>
              <a:gd name="textAreaRight" fmla="*/ 387000 w 5335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Straight Arrow Connector 42"/>
          <p:cNvCxnSpPr/>
          <p:nvPr/>
        </p:nvCxnSpPr>
        <p:spPr>
          <a:xfrm>
            <a:off x="6399720" y="1981080"/>
            <a:ext cx="305640" cy="144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5" name="Straight Arrow Connector 44"/>
          <p:cNvCxnSpPr/>
          <p:nvPr/>
        </p:nvCxnSpPr>
        <p:spPr>
          <a:xfrm flipH="1">
            <a:off x="7009560" y="4800240"/>
            <a:ext cx="381960" cy="762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6" name="Slide Number Placeholder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38A9-907F-4A36-9EC9-9CF6CF7A6B0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the formulas for the following compou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per(I) ox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(IV) brom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ron(III) sulf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ckel(III) fluor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ganese(IV) sulf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the names of the following compounds.(Use the anion to calculate the charge of the cation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966E-5748-4B73-9D3B-3971CD5436F4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yatomic ions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ons made up of 2 or more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5" descr="polyions"/>
          <p:cNvPicPr/>
          <p:nvPr/>
        </p:nvPicPr>
        <p:blipFill>
          <a:blip r:embed="rId1"/>
          <a:stretch/>
        </p:blipFill>
        <p:spPr>
          <a:xfrm>
            <a:off x="1066680" y="1447920"/>
            <a:ext cx="7239240" cy="5181480"/>
          </a:xfrm>
          <a:prstGeom prst="rect">
            <a:avLst/>
          </a:prstGeom>
          <a:ln w="0">
            <a:noFill/>
          </a:ln>
        </p:spPr>
      </p:pic>
      <p:sp>
        <p:nvSpPr>
          <p:cNvPr id="4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14FE-75EE-4A25-B198-6F25EA753E74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onic compounds with polyatomic 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+      and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1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 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-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1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Charges canc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+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monium sulf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Oval 6"/>
          <p:cNvSpPr/>
          <p:nvPr/>
        </p:nvSpPr>
        <p:spPr>
          <a:xfrm>
            <a:off x="3124080" y="22860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7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8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9"/>
          <p:cNvSpPr/>
          <p:nvPr/>
        </p:nvSpPr>
        <p:spPr>
          <a:xfrm>
            <a:off x="3352680" y="27432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0"/>
          <p:cNvSpPr/>
          <p:nvPr/>
        </p:nvSpPr>
        <p:spPr>
          <a:xfrm>
            <a:off x="3048120" y="2438280"/>
            <a:ext cx="7596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1"/>
          <p:cNvSpPr/>
          <p:nvPr/>
        </p:nvSpPr>
        <p:spPr>
          <a:xfrm>
            <a:off x="3429000" y="25909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2"/>
          <p:cNvSpPr/>
          <p:nvPr/>
        </p:nvSpPr>
        <p:spPr>
          <a:xfrm>
            <a:off x="3048120" y="2590920"/>
            <a:ext cx="7596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0"/>
          <p:cNvSpPr/>
          <p:nvPr/>
        </p:nvSpPr>
        <p:spPr>
          <a:xfrm>
            <a:off x="3429000" y="243828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20CD-4EB2-4491-B7B8-953BEE9AFE07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the formula for the following ionic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&amp; 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&amp; 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&amp; 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B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&amp; 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) L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&amp; 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89DF-BB4C-4EF3-895B-A3ACD4E456EA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ming Ionic Compounds with polyatomic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he cation: 1) fixed name the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variable element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ed by (roman numer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name the positive polyatom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only for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then the an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he negative polyatomic 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the name for the ionic compounds from the previous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DA59-BD2A-4A8E-88FA-20E2130ADCB2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09480"/>
            <a:ext cx="7772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The Electron Dot diagram for Nitr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85800" y="20574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trogen has 5 valence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we write the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248520" y="2819520"/>
            <a:ext cx="175248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85800" y="3724200"/>
            <a:ext cx="5029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add 1 electron at 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time to each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"/>
          <p:cNvSpPr/>
          <p:nvPr/>
        </p:nvSpPr>
        <p:spPr>
          <a:xfrm>
            <a:off x="6483240" y="2673360"/>
            <a:ext cx="21600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7854840" y="3435480"/>
            <a:ext cx="216000" cy="21564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6788160" y="4959360"/>
            <a:ext cx="21600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9"/>
          <p:cNvSpPr/>
          <p:nvPr/>
        </p:nvSpPr>
        <p:spPr>
          <a:xfrm>
            <a:off x="6026040" y="4197240"/>
            <a:ext cx="21600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859680" y="4770360"/>
            <a:ext cx="5623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til they are forced to pair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1"/>
          <p:cNvSpPr/>
          <p:nvPr/>
        </p:nvSpPr>
        <p:spPr>
          <a:xfrm>
            <a:off x="7169040" y="2673360"/>
            <a:ext cx="21600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F738-79BB-4D14-BB2D-13EDE18978A6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rite the electron dot diagram f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9EEB-5014-4CE7-B9B8-9189D9797C1D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ectron Configurations for C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s lose electrons to attain noble gas configuration (Born lose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make cations (positive 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we look at electron configuration it makes sen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 2, 8, 1 - 1 valence elect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2, 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noble gas configuration (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F715-CDA9-4F50-8499-38FA6E7285C8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Dots For 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447920"/>
            <a:ext cx="8559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s will have very few valence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066680" y="3352680"/>
            <a:ext cx="266724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1682640" y="3282840"/>
            <a:ext cx="21600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3816360" y="4121280"/>
            <a:ext cx="216000" cy="21564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533520" y="5830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has two valence electrons (Group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F0C4-B281-4E3B-933D-1012F43F5E44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Dots For 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9240" y="14479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s will have very few valence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will come o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066680" y="3352680"/>
            <a:ext cx="266724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5"/>
          <p:cNvSpPr/>
          <p:nvPr/>
        </p:nvSpPr>
        <p:spPr>
          <a:xfrm>
            <a:off x="1682640" y="3282840"/>
            <a:ext cx="21600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"/>
          <p:cNvSpPr/>
          <p:nvPr/>
        </p:nvSpPr>
        <p:spPr>
          <a:xfrm>
            <a:off x="3816360" y="4121280"/>
            <a:ext cx="216000" cy="21564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rc 7"/>
          <p:cNvSpPr/>
          <p:nvPr/>
        </p:nvSpPr>
        <p:spPr>
          <a:xfrm>
            <a:off x="1830240" y="2668680"/>
            <a:ext cx="838440" cy="685800"/>
          </a:xfrm>
          <a:custGeom>
            <a:avLst/>
            <a:gdLst>
              <a:gd name="textAreaLeft" fmla="*/ 0 w 838440"/>
              <a:gd name="textAreaRight" fmla="*/ 838800 w 8384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600"/>
                </a:moveTo>
                <a:cubicBezTo>
                  <a:pt x="0" y="9686"/>
                  <a:pt x="9645" y="22"/>
                  <a:pt x="21559" y="0"/>
                </a:cubicBezTo>
              </a:path>
              <a:path stroke="0" w="21600" h="21600">
                <a:moveTo>
                  <a:pt x="0" y="21600"/>
                </a:moveTo>
                <a:cubicBezTo>
                  <a:pt x="0" y="9686"/>
                  <a:pt x="9645" y="22"/>
                  <a:pt x="21559" y="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25560">
            <a:solidFill>
              <a:srgbClr val="000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rc 8"/>
          <p:cNvSpPr/>
          <p:nvPr/>
        </p:nvSpPr>
        <p:spPr>
          <a:xfrm>
            <a:off x="3963960" y="3506760"/>
            <a:ext cx="838080" cy="685800"/>
          </a:xfrm>
          <a:custGeom>
            <a:avLst/>
            <a:gdLst>
              <a:gd name="textAreaLeft" fmla="*/ 0 w 838080"/>
              <a:gd name="textAreaRight" fmla="*/ 838440 w 8380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600"/>
                </a:moveTo>
                <a:cubicBezTo>
                  <a:pt x="0" y="9686"/>
                  <a:pt x="9645" y="22"/>
                  <a:pt x="21559" y="0"/>
                </a:cubicBezTo>
              </a:path>
              <a:path stroke="0" w="21600" h="21600">
                <a:moveTo>
                  <a:pt x="0" y="21600"/>
                </a:moveTo>
                <a:cubicBezTo>
                  <a:pt x="0" y="9686"/>
                  <a:pt x="9645" y="22"/>
                  <a:pt x="21559" y="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25560">
            <a:solidFill>
              <a:srgbClr val="000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D265-EC13-46B9-88A1-7F7CBB52D34D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6:06:49Z</dcterms:created>
  <dc:creator>ladmin</dc:creator>
  <dc:description/>
  <dc:language>en-US</dc:language>
  <cp:lastModifiedBy>Pacific West Staff 1</cp:lastModifiedBy>
  <dcterms:modified xsi:type="dcterms:W3CDTF">2012-01-16T18:27:59Z</dcterms:modified>
  <cp:revision>66</cp:revision>
  <dc:subject/>
  <dc:title>Slide 1</dc:title>
</cp:coreProperties>
</file>